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5A5-EBA4-46CD-95D6-026B8100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799-F751-4611-B93F-08A06D7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B23-D929-417D-9A8B-2FEE9DAB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70E-BB07-47F0-9891-230504EB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1FE-F28A-4B09-AB9F-54018B9E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CA45-D505-44BD-B31C-B029ACAC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2439-2167-40E8-9916-F0CA4AC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6F8-D35F-42E1-AB08-06E8BF7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065D-BC63-4847-B9FD-68E3BA5E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48D-7227-48A9-8DAD-2B17A510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ADD-6627-451F-8B12-0B5C71CC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809-3BFF-4FE6-B419-151F484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0A84-3CF1-4316-B7E7-1756B8E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E8A-7B27-47E3-9A3A-C67F4D2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D417-7DAE-407B-9355-60DA9C8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33CE-4BE4-46B7-905A-5CDFE3A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3B6-A0E6-4A7D-ABFB-1F17AA19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DC8-37F5-4F2B-9974-99F81931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031-6133-4F13-98B5-C93F62DC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696-FBEB-43F4-B8F1-173A481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CA1-D444-4511-853E-E38B3C2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01C-4BE8-4F20-BE0A-2E15372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B87-86A5-4A89-9AB1-77D694C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0ED-C20C-4DF5-8811-31F170D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A375-0715-4E80-A180-05DED7DBB62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E659-9A83-4632-A251-48F0A1032C4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Stacks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A29F-48DC-498F-B711-B8477361B67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762120"/>
            <a:ext cx="5181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Consider these problems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(1) Model the discard pi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 a card game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(2)  Model a railroa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witching yard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800600" y="1676520"/>
            <a:ext cx="411480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(3) Parentheses checker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(4) Calculate and display base-two represen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26 = ???????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 MT Extra Bold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76320" y="3375000"/>
            <a:ext cx="4419360" cy="218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3059280" cy="342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2"/>
          <p:cNvSpPr/>
          <p:nvPr/>
        </p:nvSpPr>
        <p:spPr>
          <a:xfrm>
            <a:off x="5867280" y="6553080"/>
            <a:ext cx="2286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2. Implementing a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Clas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992160"/>
            <a:ext cx="8001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Define data members: consid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 MT Extra Bold"/>
              </a:rPr>
              <a:t>storage structure(s)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 MT Extra Bold"/>
              </a:rPr>
              <a:t>Attempt #1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 Use an array with the top of the stack at position 0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e.g.,  Push 75,  Push 89,  Push 64,  Pop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0880" y="533412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+ features:  Th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models the operation of the stack of pl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features: 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Not efficient to shift the array elements up and down in the array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pSp>
        <p:nvGrpSpPr>
          <p:cNvPr id="132" name="Group 115"/>
          <p:cNvGrpSpPr/>
          <p:nvPr/>
        </p:nvGrpSpPr>
        <p:grpSpPr>
          <a:xfrm>
            <a:off x="1766880" y="2487600"/>
            <a:ext cx="671400" cy="865080"/>
            <a:chOff x="1766880" y="2487600"/>
            <a:chExt cx="671400" cy="865080"/>
          </a:xfrm>
        </p:grpSpPr>
        <p:sp>
          <p:nvSpPr>
            <p:cNvPr id="133" name="Rectangle 9"/>
            <p:cNvSpPr/>
            <p:nvPr/>
          </p:nvSpPr>
          <p:spPr>
            <a:xfrm>
              <a:off x="1890720" y="2522520"/>
              <a:ext cx="547560" cy="15408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1768320" y="248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 MT Extra Bold"/>
                </a:rPr>
                <a:t>0 </a:t>
              </a:r>
              <a:endParaRPr b="0" lang="en-US" sz="13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1768320" y="26542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 MT Extra Bold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1768320" y="28209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 MT Extra Bold"/>
                </a:rPr>
                <a:t>2 </a:t>
              </a:r>
              <a:endParaRPr b="0" lang="en-US" sz="13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768320" y="298764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 MT Extra Bold"/>
                </a:rPr>
                <a:t>3 </a:t>
              </a:r>
              <a:endParaRPr b="0" lang="en-US" sz="13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1766880" y="3154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 MT Extra Bold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1890720" y="2674800"/>
              <a:ext cx="547560" cy="15408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1890720" y="2827440"/>
              <a:ext cx="547560" cy="15228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1890720" y="2979720"/>
              <a:ext cx="547560" cy="15408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1890720" y="3133800"/>
              <a:ext cx="547560" cy="15228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</p:grpSp>
      <p:grpSp>
        <p:nvGrpSpPr>
          <p:cNvPr id="143" name="Group 111"/>
          <p:cNvGrpSpPr/>
          <p:nvPr/>
        </p:nvGrpSpPr>
        <p:grpSpPr>
          <a:xfrm>
            <a:off x="2665440" y="2255760"/>
            <a:ext cx="697680" cy="1088640"/>
            <a:chOff x="2665440" y="2255760"/>
            <a:chExt cx="697680" cy="1088640"/>
          </a:xfrm>
        </p:grpSpPr>
        <p:sp>
          <p:nvSpPr>
            <p:cNvPr id="144" name="Rectangle 107"/>
            <p:cNvSpPr/>
            <p:nvPr/>
          </p:nvSpPr>
          <p:spPr>
            <a:xfrm>
              <a:off x="2805120" y="2513160"/>
              <a:ext cx="547560" cy="153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grpSp>
          <p:nvGrpSpPr>
            <p:cNvPr id="145" name="Group 20"/>
            <p:cNvGrpSpPr/>
            <p:nvPr/>
          </p:nvGrpSpPr>
          <p:grpSpPr>
            <a:xfrm>
              <a:off x="2665440" y="2255760"/>
              <a:ext cx="697680" cy="1088640"/>
              <a:chOff x="2665440" y="2255760"/>
              <a:chExt cx="697680" cy="1088640"/>
            </a:xfrm>
          </p:grpSpPr>
          <p:sp>
            <p:nvSpPr>
              <p:cNvPr id="146" name="Rectangle 21"/>
              <p:cNvSpPr/>
              <p:nvPr/>
            </p:nvSpPr>
            <p:spPr>
              <a:xfrm>
                <a:off x="2788560" y="2502360"/>
                <a:ext cx="546120" cy="15588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2666880" y="24667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48" name="Rectangle 23"/>
              <p:cNvSpPr/>
              <p:nvPr/>
            </p:nvSpPr>
            <p:spPr>
              <a:xfrm>
                <a:off x="2666880" y="26362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49" name="Rectangle 24"/>
              <p:cNvSpPr/>
              <p:nvPr/>
            </p:nvSpPr>
            <p:spPr>
              <a:xfrm>
                <a:off x="2666880" y="28065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2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0" name="Rectangle 25"/>
              <p:cNvSpPr/>
              <p:nvPr/>
            </p:nvSpPr>
            <p:spPr>
              <a:xfrm>
                <a:off x="2666880" y="29764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3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1" name="Rectangle 26"/>
              <p:cNvSpPr/>
              <p:nvPr/>
            </p:nvSpPr>
            <p:spPr>
              <a:xfrm>
                <a:off x="2665440" y="3146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2" name="Rectangle 27"/>
              <p:cNvSpPr/>
              <p:nvPr/>
            </p:nvSpPr>
            <p:spPr>
              <a:xfrm>
                <a:off x="2788560" y="2657880"/>
                <a:ext cx="546120" cy="15588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3" name="Rectangle 28"/>
              <p:cNvSpPr/>
              <p:nvPr/>
            </p:nvSpPr>
            <p:spPr>
              <a:xfrm>
                <a:off x="2788560" y="2813400"/>
                <a:ext cx="546120" cy="15516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4" name="Rectangle 29"/>
              <p:cNvSpPr/>
              <p:nvPr/>
            </p:nvSpPr>
            <p:spPr>
              <a:xfrm>
                <a:off x="2788560" y="296892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5" name="Rectangle 30"/>
              <p:cNvSpPr/>
              <p:nvPr/>
            </p:nvSpPr>
            <p:spPr>
              <a:xfrm>
                <a:off x="2788560" y="3124440"/>
                <a:ext cx="546120" cy="15516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6" name="Rectangle 31"/>
              <p:cNvSpPr/>
              <p:nvPr/>
            </p:nvSpPr>
            <p:spPr>
              <a:xfrm>
                <a:off x="2980080" y="248076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7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57" name="Rectangle 32"/>
              <p:cNvSpPr/>
              <p:nvPr/>
            </p:nvSpPr>
            <p:spPr>
              <a:xfrm>
                <a:off x="2748240" y="2255760"/>
                <a:ext cx="614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Push 7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</p:grpSp>
      </p:grpSp>
      <p:grpSp>
        <p:nvGrpSpPr>
          <p:cNvPr id="158" name="Group 112"/>
          <p:cNvGrpSpPr/>
          <p:nvPr/>
        </p:nvGrpSpPr>
        <p:grpSpPr>
          <a:xfrm>
            <a:off x="3282840" y="2255760"/>
            <a:ext cx="1013760" cy="1088640"/>
            <a:chOff x="3282840" y="2255760"/>
            <a:chExt cx="1013760" cy="1088640"/>
          </a:xfrm>
        </p:grpSpPr>
        <p:sp>
          <p:nvSpPr>
            <p:cNvPr id="159" name="Rectangle 110"/>
            <p:cNvSpPr/>
            <p:nvPr/>
          </p:nvSpPr>
          <p:spPr>
            <a:xfrm>
              <a:off x="3719520" y="2514600"/>
              <a:ext cx="547560" cy="154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60" name="Rectangle 103"/>
            <p:cNvSpPr/>
            <p:nvPr/>
          </p:nvSpPr>
          <p:spPr>
            <a:xfrm>
              <a:off x="3733920" y="2665440"/>
              <a:ext cx="547560" cy="154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3282840" y="2255760"/>
              <a:ext cx="1013760" cy="1088640"/>
              <a:chOff x="3282840" y="2255760"/>
              <a:chExt cx="1013760" cy="1088640"/>
            </a:xfrm>
          </p:grpSpPr>
          <p:sp>
            <p:nvSpPr>
              <p:cNvPr id="162" name="Rectangle 34"/>
              <p:cNvSpPr/>
              <p:nvPr/>
            </p:nvSpPr>
            <p:spPr>
              <a:xfrm>
                <a:off x="3720960" y="2502360"/>
                <a:ext cx="546120" cy="15588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>
                <a:off x="3599280" y="24667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3599280" y="26362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5" name="Rectangle 37"/>
              <p:cNvSpPr/>
              <p:nvPr/>
            </p:nvSpPr>
            <p:spPr>
              <a:xfrm>
                <a:off x="3599280" y="28065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2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3599280" y="29764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3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>
                <a:off x="3597840" y="31460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8" name="Rectangle 40"/>
              <p:cNvSpPr/>
              <p:nvPr/>
            </p:nvSpPr>
            <p:spPr>
              <a:xfrm>
                <a:off x="3720960" y="2657880"/>
                <a:ext cx="546120" cy="15588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3720960" y="2813400"/>
                <a:ext cx="546120" cy="15516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0" name="Rectangle 42"/>
              <p:cNvSpPr/>
              <p:nvPr/>
            </p:nvSpPr>
            <p:spPr>
              <a:xfrm>
                <a:off x="3720960" y="296892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>
                <a:off x="3720960" y="3124440"/>
                <a:ext cx="546120" cy="15516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2" name="Rectangle 44"/>
              <p:cNvSpPr/>
              <p:nvPr/>
            </p:nvSpPr>
            <p:spPr>
              <a:xfrm>
                <a:off x="3913560" y="246672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8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3" name="Rectangle 45"/>
              <p:cNvSpPr/>
              <p:nvPr/>
            </p:nvSpPr>
            <p:spPr>
              <a:xfrm>
                <a:off x="3681720" y="2255760"/>
                <a:ext cx="614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Push 8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4" name="Rectangle 46"/>
              <p:cNvSpPr/>
              <p:nvPr/>
            </p:nvSpPr>
            <p:spPr>
              <a:xfrm>
                <a:off x="3913560" y="262260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7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5" name="Arc 47"/>
              <p:cNvSpPr/>
              <p:nvPr/>
            </p:nvSpPr>
            <p:spPr>
              <a:xfrm>
                <a:off x="3412800" y="2591280"/>
                <a:ext cx="186120" cy="144360"/>
              </a:xfrm>
              <a:custGeom>
                <a:avLst/>
                <a:gdLst/>
                <a:ahLst/>
                <a:rect l="l" t="t" r="r" b="b"/>
                <a:pathLst>
                  <a:path fill="none" w="21560" h="17024">
                    <a:moveTo>
                      <a:pt x="-1" y="15711"/>
                    </a:moveTo>
                    <a:cubicBezTo>
                      <a:pt x="375" y="9532"/>
                      <a:pt x="3385" y="3810"/>
                      <a:pt x="8265" y="0"/>
                    </a:cubicBezTo>
                  </a:path>
                  <a:path stroke="0" w="21560" h="17024">
                    <a:moveTo>
                      <a:pt x="-1" y="15711"/>
                    </a:moveTo>
                    <a:cubicBezTo>
                      <a:pt x="375" y="9532"/>
                      <a:pt x="3385" y="3810"/>
                      <a:pt x="8265" y="0"/>
                    </a:cubicBezTo>
                    <a:lnTo>
                      <a:pt x="21560" y="17024"/>
                    </a:lnTo>
                    <a:lnTo>
                      <a:pt x="-1" y="15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76" name="Line 48"/>
              <p:cNvSpPr/>
              <p:nvPr/>
            </p:nvSpPr>
            <p:spPr>
              <a:xfrm>
                <a:off x="3282840" y="2566800"/>
                <a:ext cx="244440" cy="126720"/>
              </a:xfrm>
              <a:prstGeom prst="line">
                <a:avLst/>
              </a:prstGeom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</p:grpSp>
      </p:grpSp>
      <p:grpSp>
        <p:nvGrpSpPr>
          <p:cNvPr id="177" name="Group 113"/>
          <p:cNvGrpSpPr/>
          <p:nvPr/>
        </p:nvGrpSpPr>
        <p:grpSpPr>
          <a:xfrm>
            <a:off x="4191120" y="2232000"/>
            <a:ext cx="1013760" cy="1091160"/>
            <a:chOff x="4191120" y="2232000"/>
            <a:chExt cx="1013760" cy="1091160"/>
          </a:xfrm>
        </p:grpSpPr>
        <p:sp>
          <p:nvSpPr>
            <p:cNvPr id="178" name="Rectangle 108"/>
            <p:cNvSpPr/>
            <p:nvPr/>
          </p:nvSpPr>
          <p:spPr>
            <a:xfrm>
              <a:off x="4633920" y="2665440"/>
              <a:ext cx="547560" cy="154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179" name="Rectangle 105"/>
            <p:cNvSpPr/>
            <p:nvPr/>
          </p:nvSpPr>
          <p:spPr>
            <a:xfrm>
              <a:off x="4648320" y="2819520"/>
              <a:ext cx="547560" cy="153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grpSp>
          <p:nvGrpSpPr>
            <p:cNvPr id="180" name="Group 49"/>
            <p:cNvGrpSpPr/>
            <p:nvPr/>
          </p:nvGrpSpPr>
          <p:grpSpPr>
            <a:xfrm>
              <a:off x="4191120" y="2232000"/>
              <a:ext cx="1013760" cy="1091160"/>
              <a:chOff x="4191120" y="2232000"/>
              <a:chExt cx="1013760" cy="1091160"/>
            </a:xfrm>
          </p:grpSpPr>
          <p:sp>
            <p:nvSpPr>
              <p:cNvPr id="181" name="Rectangle 50"/>
              <p:cNvSpPr/>
              <p:nvPr/>
            </p:nvSpPr>
            <p:spPr>
              <a:xfrm>
                <a:off x="4628880" y="247968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2" name="Rectangle 51"/>
              <p:cNvSpPr/>
              <p:nvPr/>
            </p:nvSpPr>
            <p:spPr>
              <a:xfrm>
                <a:off x="4507200" y="2444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3" name="Rectangle 52"/>
              <p:cNvSpPr/>
              <p:nvPr/>
            </p:nvSpPr>
            <p:spPr>
              <a:xfrm>
                <a:off x="4507200" y="2614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4" name="Rectangle 53"/>
              <p:cNvSpPr/>
              <p:nvPr/>
            </p:nvSpPr>
            <p:spPr>
              <a:xfrm>
                <a:off x="4507200" y="278460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2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5" name="Rectangle 54"/>
              <p:cNvSpPr/>
              <p:nvPr/>
            </p:nvSpPr>
            <p:spPr>
              <a:xfrm>
                <a:off x="4507200" y="29545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3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6" name="Rectangle 55"/>
              <p:cNvSpPr/>
              <p:nvPr/>
            </p:nvSpPr>
            <p:spPr>
              <a:xfrm>
                <a:off x="4505760" y="312480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7" name="Rectangle 56"/>
              <p:cNvSpPr/>
              <p:nvPr/>
            </p:nvSpPr>
            <p:spPr>
              <a:xfrm>
                <a:off x="4628880" y="263520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8" name="Rectangle 57"/>
              <p:cNvSpPr/>
              <p:nvPr/>
            </p:nvSpPr>
            <p:spPr>
              <a:xfrm>
                <a:off x="4628880" y="279108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89" name="Rectangle 58"/>
              <p:cNvSpPr/>
              <p:nvPr/>
            </p:nvSpPr>
            <p:spPr>
              <a:xfrm>
                <a:off x="4628880" y="2945880"/>
                <a:ext cx="546120" cy="15624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0" name="Rectangle 59"/>
              <p:cNvSpPr/>
              <p:nvPr/>
            </p:nvSpPr>
            <p:spPr>
              <a:xfrm>
                <a:off x="4628880" y="310176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1" name="Rectangle 60"/>
              <p:cNvSpPr/>
              <p:nvPr/>
            </p:nvSpPr>
            <p:spPr>
              <a:xfrm>
                <a:off x="4821840" y="260028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8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2" name="Rectangle 61"/>
              <p:cNvSpPr/>
              <p:nvPr/>
            </p:nvSpPr>
            <p:spPr>
              <a:xfrm>
                <a:off x="4590000" y="2232000"/>
                <a:ext cx="614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Push 6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3" name="Rectangle 62"/>
              <p:cNvSpPr/>
              <p:nvPr/>
            </p:nvSpPr>
            <p:spPr>
              <a:xfrm>
                <a:off x="4821840" y="275616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7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4" name="Arc 63"/>
              <p:cNvSpPr/>
              <p:nvPr/>
            </p:nvSpPr>
            <p:spPr>
              <a:xfrm>
                <a:off x="4321080" y="2568600"/>
                <a:ext cx="185760" cy="144720"/>
              </a:xfrm>
              <a:custGeom>
                <a:avLst/>
                <a:gdLst/>
                <a:ahLst/>
                <a:rect l="l" t="t" r="r" b="b"/>
                <a:pathLst>
                  <a:path fill="none" w="21560" h="17013">
                    <a:moveTo>
                      <a:pt x="-1" y="15702"/>
                    </a:moveTo>
                    <a:cubicBezTo>
                      <a:pt x="374" y="9528"/>
                      <a:pt x="3379" y="3811"/>
                      <a:pt x="8251" y="0"/>
                    </a:cubicBezTo>
                  </a:path>
                  <a:path stroke="0" w="21560" h="17013">
                    <a:moveTo>
                      <a:pt x="-1" y="15702"/>
                    </a:moveTo>
                    <a:cubicBezTo>
                      <a:pt x="374" y="9528"/>
                      <a:pt x="3379" y="3811"/>
                      <a:pt x="8251" y="0"/>
                    </a:cubicBezTo>
                    <a:lnTo>
                      <a:pt x="21560" y="17013"/>
                    </a:lnTo>
                    <a:lnTo>
                      <a:pt x="-1" y="157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5" name="Line 64"/>
              <p:cNvSpPr/>
              <p:nvPr/>
            </p:nvSpPr>
            <p:spPr>
              <a:xfrm>
                <a:off x="4191120" y="2543400"/>
                <a:ext cx="244440" cy="127080"/>
              </a:xfrm>
              <a:prstGeom prst="line">
                <a:avLst/>
              </a:prstGeom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6" name="Rectangle 65"/>
              <p:cNvSpPr/>
              <p:nvPr/>
            </p:nvSpPr>
            <p:spPr>
              <a:xfrm>
                <a:off x="4821840" y="244476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6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7" name="Arc 66"/>
              <p:cNvSpPr/>
              <p:nvPr/>
            </p:nvSpPr>
            <p:spPr>
              <a:xfrm>
                <a:off x="4321080" y="2738520"/>
                <a:ext cx="185760" cy="144720"/>
              </a:xfrm>
              <a:custGeom>
                <a:avLst/>
                <a:gdLst/>
                <a:ahLst/>
                <a:rect l="l" t="t" r="r" b="b"/>
                <a:pathLst>
                  <a:path fill="none" w="21560" h="17013">
                    <a:moveTo>
                      <a:pt x="-1" y="15702"/>
                    </a:moveTo>
                    <a:cubicBezTo>
                      <a:pt x="374" y="9528"/>
                      <a:pt x="3379" y="3811"/>
                      <a:pt x="8251" y="0"/>
                    </a:cubicBezTo>
                  </a:path>
                  <a:path stroke="0" w="21560" h="17013">
                    <a:moveTo>
                      <a:pt x="-1" y="15702"/>
                    </a:moveTo>
                    <a:cubicBezTo>
                      <a:pt x="374" y="9528"/>
                      <a:pt x="3379" y="3811"/>
                      <a:pt x="8251" y="0"/>
                    </a:cubicBezTo>
                    <a:lnTo>
                      <a:pt x="21560" y="17013"/>
                    </a:lnTo>
                    <a:lnTo>
                      <a:pt x="-1" y="157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198" name="Line 67"/>
              <p:cNvSpPr/>
              <p:nvPr/>
            </p:nvSpPr>
            <p:spPr>
              <a:xfrm>
                <a:off x="4191120" y="2712960"/>
                <a:ext cx="244440" cy="127440"/>
              </a:xfrm>
              <a:prstGeom prst="line">
                <a:avLst/>
              </a:prstGeom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</p:grpSp>
      </p:grpSp>
      <p:grpSp>
        <p:nvGrpSpPr>
          <p:cNvPr id="199" name="Group 114"/>
          <p:cNvGrpSpPr/>
          <p:nvPr/>
        </p:nvGrpSpPr>
        <p:grpSpPr>
          <a:xfrm>
            <a:off x="5105520" y="2232000"/>
            <a:ext cx="1004760" cy="1090440"/>
            <a:chOff x="5105520" y="2232000"/>
            <a:chExt cx="1004760" cy="1090440"/>
          </a:xfrm>
        </p:grpSpPr>
        <p:sp>
          <p:nvSpPr>
            <p:cNvPr id="200" name="Rectangle 109"/>
            <p:cNvSpPr/>
            <p:nvPr/>
          </p:nvSpPr>
          <p:spPr>
            <a:xfrm>
              <a:off x="5562720" y="2514600"/>
              <a:ext cx="547560" cy="154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sp>
          <p:nvSpPr>
            <p:cNvPr id="201" name="Rectangle 106"/>
            <p:cNvSpPr/>
            <p:nvPr/>
          </p:nvSpPr>
          <p:spPr>
            <a:xfrm>
              <a:off x="5562720" y="2666880"/>
              <a:ext cx="547560" cy="154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MT Extra Bold"/>
              </a:endParaRPr>
            </a:p>
          </p:txBody>
        </p:sp>
        <p:grpSp>
          <p:nvGrpSpPr>
            <p:cNvPr id="202" name="Group 102"/>
            <p:cNvGrpSpPr/>
            <p:nvPr/>
          </p:nvGrpSpPr>
          <p:grpSpPr>
            <a:xfrm>
              <a:off x="5105520" y="2232000"/>
              <a:ext cx="990360" cy="1090440"/>
              <a:chOff x="5105520" y="2232000"/>
              <a:chExt cx="990360" cy="1090440"/>
            </a:xfrm>
          </p:grpSpPr>
          <p:sp>
            <p:nvSpPr>
              <p:cNvPr id="203" name="Rectangle 85"/>
              <p:cNvSpPr/>
              <p:nvPr/>
            </p:nvSpPr>
            <p:spPr>
              <a:xfrm>
                <a:off x="5549760" y="247968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4" name="Rectangle 86"/>
              <p:cNvSpPr/>
              <p:nvPr/>
            </p:nvSpPr>
            <p:spPr>
              <a:xfrm>
                <a:off x="5427720" y="2444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5" name="Rectangle 87"/>
              <p:cNvSpPr/>
              <p:nvPr/>
            </p:nvSpPr>
            <p:spPr>
              <a:xfrm>
                <a:off x="5427720" y="26146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6" name="Rectangle 88"/>
              <p:cNvSpPr/>
              <p:nvPr/>
            </p:nvSpPr>
            <p:spPr>
              <a:xfrm>
                <a:off x="5427720" y="278460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2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7" name="Rectangle 89"/>
              <p:cNvSpPr/>
              <p:nvPr/>
            </p:nvSpPr>
            <p:spPr>
              <a:xfrm>
                <a:off x="5427720" y="29541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3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8" name="Rectangle 90"/>
              <p:cNvSpPr/>
              <p:nvPr/>
            </p:nvSpPr>
            <p:spPr>
              <a:xfrm>
                <a:off x="5408640" y="31240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09" name="Rectangle 91"/>
              <p:cNvSpPr/>
              <p:nvPr/>
            </p:nvSpPr>
            <p:spPr>
              <a:xfrm>
                <a:off x="5549760" y="263520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0" name="Rectangle 92"/>
              <p:cNvSpPr/>
              <p:nvPr/>
            </p:nvSpPr>
            <p:spPr>
              <a:xfrm>
                <a:off x="5549760" y="279072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1" name="Rectangle 93"/>
              <p:cNvSpPr/>
              <p:nvPr/>
            </p:nvSpPr>
            <p:spPr>
              <a:xfrm>
                <a:off x="5549760" y="2946240"/>
                <a:ext cx="546120" cy="15588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2" name="Rectangle 94"/>
              <p:cNvSpPr/>
              <p:nvPr/>
            </p:nvSpPr>
            <p:spPr>
              <a:xfrm>
                <a:off x="5549760" y="3102120"/>
                <a:ext cx="546120" cy="155520"/>
              </a:xfrm>
              <a:prstGeom prst="rect">
                <a:avLst/>
              </a:prstGeom>
              <a:noFill/>
              <a:ln w="14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3" name="Rectangle 95"/>
              <p:cNvSpPr/>
              <p:nvPr/>
            </p:nvSpPr>
            <p:spPr>
              <a:xfrm>
                <a:off x="5740920" y="244476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8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4" name="Rectangle 96"/>
              <p:cNvSpPr/>
              <p:nvPr/>
            </p:nvSpPr>
            <p:spPr>
              <a:xfrm>
                <a:off x="5669280" y="2232000"/>
                <a:ext cx="29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Po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5" name="Rectangle 97"/>
              <p:cNvSpPr/>
              <p:nvPr/>
            </p:nvSpPr>
            <p:spPr>
              <a:xfrm>
                <a:off x="5740920" y="260028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 MT Extra Bold"/>
                  </a:rPr>
                  <a:t>7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6" name="Line 98"/>
              <p:cNvSpPr/>
              <p:nvPr/>
            </p:nvSpPr>
            <p:spPr>
              <a:xfrm flipV="1">
                <a:off x="5105520" y="2590560"/>
                <a:ext cx="304560" cy="106200"/>
              </a:xfrm>
              <a:prstGeom prst="line">
                <a:avLst/>
              </a:prstGeom>
              <a:ln w="147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  <p:sp>
            <p:nvSpPr>
              <p:cNvPr id="217" name="Line 99"/>
              <p:cNvSpPr/>
              <p:nvPr/>
            </p:nvSpPr>
            <p:spPr>
              <a:xfrm flipV="1">
                <a:off x="5105520" y="2742840"/>
                <a:ext cx="304560" cy="106200"/>
              </a:xfrm>
              <a:prstGeom prst="line">
                <a:avLst/>
              </a:prstGeom>
              <a:ln w="147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MT Extra Bold"/>
                </a:endParaRPr>
              </a:p>
            </p:txBody>
          </p:sp>
        </p:grpSp>
      </p:grpSp>
      <p:graphicFrame>
        <p:nvGraphicFramePr>
          <p:cNvPr id="218" name="Object 101"/>
          <p:cNvGraphicFramePr/>
          <p:nvPr/>
        </p:nvGraphicFramePr>
        <p:xfrm>
          <a:off x="1077840" y="3352680"/>
          <a:ext cx="600876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3352680"/>
                    <a:ext cx="6008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mplementing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Class — Refined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8E57-442F-4989-9E4D-BAD3F5491DC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1066680" y="3886200"/>
          <a:ext cx="6743880" cy="16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438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9"/>
          <p:cNvSpPr/>
          <p:nvPr/>
        </p:nvSpPr>
        <p:spPr>
          <a:xfrm>
            <a:off x="152280" y="2514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Keep the bottom of stack at position 0.   Maintain a "pointer"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to the top of the stack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28600" y="11271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Instead of modeling a stack of plates, model a stack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 MT Extra Bold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(or a discard pile in a card game.)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226" name="Picture 16" descr=""/>
          <p:cNvPicPr/>
          <p:nvPr/>
        </p:nvPicPr>
        <p:blipFill>
          <a:blip r:embed="rId3"/>
          <a:stretch/>
        </p:blipFill>
        <p:spPr>
          <a:xfrm>
            <a:off x="2057400" y="1600200"/>
            <a:ext cx="4724280" cy="8492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1"/>
          <p:cNvSpPr/>
          <p:nvPr/>
        </p:nvSpPr>
        <p:spPr>
          <a:xfrm>
            <a:off x="228600" y="6324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Note: 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No moving of array elements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's Data Member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9D0-3312-4DF6-9831-4B97E795B54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04920" y="963720"/>
            <a:ext cx="8610480" cy="58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rovide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buClr>
                <a:srgbClr val="000000"/>
              </a:buClr>
              <a:buFont typeface="Times New Roman MT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dynamically alloc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data member to hol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stack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buClr>
                <a:srgbClr val="000000"/>
              </a:buClr>
              <a:buFont typeface="Times New Roman MT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data member to indica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 MT Extra Bold"/>
              </a:rPr>
              <a:t>top of the 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  We need an array declaration of the form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ArrayElementType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What type should be used?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olution:  Use th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mechanism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emplate&lt;typename StackElement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ut this before the class declaratio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Now we can declare the array data member in the private section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Element *myArray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6E5-5D9D-4F6A-B9E4-AD20DADB259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52280" y="333360"/>
            <a:ext cx="899172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templ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ype is left unspecified.  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he type 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passed as a special kind of 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at compile time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his is the approach used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Standard Template Libr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STL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nd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ost of the other C++ libraries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2. The constructor for the class should provide a default argument for the stack size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(int size = maxSize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ssume 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nst int maxSize = 128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nd is placed outside the class declaration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D73D-5DA6-4DA9-B308-7D0D129E0CE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76320" y="380880"/>
            <a:ext cx="8991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ack.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nst int maxSize = 128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tack.h provides a Stack class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Basic opera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Constructor:  Constructs an empty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empty:        Checks if a stack is emp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push:         Modifies a stack by adding a value at the t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top:          Accesses the top stack value; leaves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                unchang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pop:          Modifies a stack by removing the value at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                t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display:      Displays all the stack elements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Class Invariant: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  1. The stack elements (if any) are stored in posi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     0, 1, . . ., myTop of myArray.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  2. -1 &lt;= myTop &lt; maxSiz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----------------------------------------------------------*/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248520" y="380880"/>
            <a:ext cx="243828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400800" y="457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TE THE DOCUMENTATION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BF4-BE10-46EF-AB3B-75008849BED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048320" y="422280"/>
            <a:ext cx="408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A declaration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&lt;int&gt; s;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will construct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 as follows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457200" y="510552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yArray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685800" y="5486400"/>
            <a:ext cx="121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yTop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200400" y="5486400"/>
            <a:ext cx="56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242" name="Object 11"/>
          <p:cNvGraphicFramePr/>
          <p:nvPr/>
        </p:nvGraphicFramePr>
        <p:xfrm>
          <a:off x="2209680" y="4876920"/>
          <a:ext cx="471024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876920"/>
                    <a:ext cx="4710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4495-D0F8-47FF-B2BB-712F6EE79D7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880" y="274680"/>
            <a:ext cx="83822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MT Extra Bold"/>
              </a:rPr>
              <a:t>empty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containing it as a function member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tur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rue if stack is empty, false otherwise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ember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51460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715000" y="1828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80880" y="182880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st function? (Shouldn't alter data members)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2280" y="2286000"/>
            <a:ext cx="838224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 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 . .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--- Is the Stack empty? 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eturns: true if the Stack containing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          function is empty and false otherwi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ool empty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// end of class declaration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1CC-1B6F-444A-9257-29DAF949FAB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80880" y="533520"/>
            <a:ext cx="69343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Test dr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"Stack.h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Stack s&lt;int&gt;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ut &lt;&lt; "s empty? "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&lt;&lt; s.empty() &lt;&lt; endl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 empty? 1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360-003D-48C8-82D4-3A7B3AEC02D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80880" y="274680"/>
            <a:ext cx="83059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MT Extra Bold"/>
              </a:rPr>
              <a:t>push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containing it as a function member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Value to be added to sta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tur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odified stack (perhaps implicitly)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ember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438280" y="1676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2133720" y="1965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80880" y="19638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st function? 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04920" y="2955960"/>
            <a:ext cx="830556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Add to class 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--- Add a value to the stack 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eceive: A value to be added to a St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Postcondition: Value is added at top of stac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                provided there's spa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Output:  "Stack full" message if no space 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oid push(const StackElement &amp; value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D6DA-9B06-4349-A6BA-733D731A063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80880" y="1143000"/>
            <a:ext cx="8382240" cy="36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Add at bottom of dr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128; i++) s.push(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Stack should now be full\n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129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empty?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 should now be f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** Stack is full -- can't add new value **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st increase value of maxSize in Stack.h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E2C4-40C1-4AD9-916C-6447789EEC1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80880" y="762120"/>
            <a:ext cx="8382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 the last problem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Remainders are generated in right-to-left order.  We need to "stack" them up, then print them out from top to bottom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2666880"/>
            <a:ext cx="792468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 these problems we need a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"last-discarded-first-removed,"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"last-pushed-onto-first-removed,"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"last-stored-first-removed, "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"last-generated-first-displayed"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tructured data type.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 summary ... a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LIFO (Last-In-First-Out)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structure.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5C3-306F-44C7-BCA8-008F94AE1B3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80880" y="304920"/>
            <a:ext cx="84582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o we can test our operations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s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containing it as a function member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tents of Stack, from the top down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ember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438280" y="1828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105520" y="1828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124080" y="1828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st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0" y="2286000"/>
            <a:ext cx="8305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Add to class 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--- Display values stored in the stack 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eceive: The ostream o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Output:  Stack's contents, from top down, to o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oid display(ostream &amp; out) const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04920" y="4648320"/>
            <a:ext cx="84582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Add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.cpp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typename StackElement&gt;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tack&lt;StackElement&gt;::display(ostream &amp; out) con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r (int i = myTop; i &gt;= 0; i--)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out &lt;&lt; myArray[i] &lt;&lt; end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1E33-EB87-4E99-A012-FD25FFD9C75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920" y="6858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04920" y="38088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Modify driver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128; i++) s.push(i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Stack should now be full\n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129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 s.push(2*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ut &lt;&lt; "Stack contents:\n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display(cout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s empty? " &lt;&lt; s.empty() &lt;&lt; endl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0880" y="3886200"/>
            <a:ext cx="5943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empty?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 contents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 empty? false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7985-F5AF-4B1D-BFAE-1B3FE951975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04920" y="3473280"/>
            <a:ext cx="8534160" cy="23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Add to class declaration: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--- Return value at top of the stack 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eturn: value at the top of nonempty St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Output:  "Stack empty" message if stack emp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ckElement top() const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80880" y="304920"/>
            <a:ext cx="8382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MT Extra Bold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s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containing it as a function member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tur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Value at the top of the sta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Error message if stack is empty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ember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259092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56272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352680" y="22096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st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55A-D32E-4727-9045-AA738E09D7E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04920" y="990720"/>
            <a:ext cx="51051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Add to driver at bottom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Top value: " &lt;&lt; s.top(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&lt;&lt; endl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791320" y="685800"/>
            <a:ext cx="259056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 content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empty?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value: 8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C5A5-2005-4D6D-AA38-57AEAD00334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0" y="6858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88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80880" y="351000"/>
            <a:ext cx="84582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MT Extra Bold"/>
              </a:rPr>
              <a:t>pop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containing it as a function member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tur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Stack with top element removed (perhaps implicitl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Error message if stack is empty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Member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2438280" y="1905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4800600" y="1906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MT Extra Bol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3048120" y="19051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onst function?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04920" y="2741760"/>
            <a:ext cx="830556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 . .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--- Remove value at top of the stack 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Postcondition: Top value of stack (if any) h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               been remov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Output: "Stack-empty" message if stack is empty. **************************************************/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oid pop(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 // end of class declaration</a:t>
            </a:r>
            <a:endParaRPr b="0" lang="en-US" sz="1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406-6445-4F7D-96D3-FB7B324365C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28600" y="533520"/>
            <a:ext cx="54864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Add to driver at bottom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!s.empty(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ut &lt;&lt; "Popping " &lt;&lt; s.top(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&lt;&lt; end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s.pop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s empty? " &lt;&lt; s.empty(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&lt;&lt; endl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5867280" y="2514600"/>
            <a:ext cx="2590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 content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empty?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value: 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ping 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ping 6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ping 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ping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empty? true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Stack as an ADT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6126-E39E-49F9-A2FF-50EDD323105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2280" y="11430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an ordered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 MT Extra Bold"/>
              </a:rPr>
              <a:t>collection of data items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 in which access is possible only at one end (called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 MT Extra Bold"/>
              </a:rPr>
              <a:t>top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 of the stack).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9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Basic operations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1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Construct a stack (usually empty)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2. Check if stack</a:t>
            </a:r>
            <a:r>
              <a:rPr b="0" lang="en-US" sz="2400" spc="-1" strike="noStrike">
                <a:solidFill>
                  <a:srgbClr val="cc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3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Push</a:t>
            </a:r>
            <a:r>
              <a:rPr b="0" lang="en-US" sz="2400" spc="-1" strike="noStrike">
                <a:solidFill>
                  <a:srgbClr val="ff5050"/>
                </a:solidFill>
                <a:latin typeface="Times New Roman MT Extra Bold"/>
              </a:rPr>
              <a:t>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an element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at the 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f the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4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Top:  Retrieve</a:t>
            </a:r>
            <a:r>
              <a:rPr b="0" lang="en-US" sz="2400" spc="-1" strike="noStrike">
                <a:solidFill>
                  <a:srgbClr val="cc0000"/>
                </a:solidFill>
                <a:latin typeface="Times New Roman MT Extra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he</a:t>
            </a:r>
            <a:r>
              <a:rPr b="0" lang="en-US" sz="2400" spc="-1" strike="noStrike">
                <a:solidFill>
                  <a:srgbClr val="cc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top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f the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5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Pop:  Remove</a:t>
            </a:r>
            <a:r>
              <a:rPr b="0" lang="en-US" sz="2400" spc="-1" strike="noStrike">
                <a:solidFill>
                  <a:srgbClr val="cc0000"/>
                </a:solidFill>
                <a:latin typeface="Times New Roman MT Extra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he</a:t>
            </a:r>
            <a:r>
              <a:rPr b="0" lang="en-US" sz="2400" spc="-1" strike="noStrike">
                <a:solidFill>
                  <a:srgbClr val="cc0000"/>
                </a:solidFill>
                <a:latin typeface="Times New Roman MT Extra Bold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top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f the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90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erminology is from spring-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stack of plates in a cafeteria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dding a plate pushes those below it down in the stack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495440" cy="2019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0" y="57308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moving a plate pops those below it up one position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105" name="Picture 28" descr=""/>
          <p:cNvPicPr/>
          <p:nvPr/>
        </p:nvPicPr>
        <p:blipFill>
          <a:blip r:embed="rId2"/>
          <a:stretch/>
        </p:blipFill>
        <p:spPr>
          <a:xfrm>
            <a:off x="6572160" y="4383000"/>
            <a:ext cx="1505160" cy="201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9" descr=""/>
          <p:cNvPicPr/>
          <p:nvPr/>
        </p:nvPicPr>
        <p:blipFill>
          <a:blip r:embed="rId3"/>
          <a:stretch/>
        </p:blipFill>
        <p:spPr>
          <a:xfrm>
            <a:off x="6572160" y="4381560"/>
            <a:ext cx="1505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Example use of Stack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304920" y="304920"/>
          <a:ext cx="1036440" cy="78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036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5"/>
          <p:cNvSpPr/>
          <p:nvPr/>
        </p:nvSpPr>
        <p:spPr>
          <a:xfrm>
            <a:off x="0" y="1600200"/>
            <a:ext cx="624852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459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BASE-CONVERSION 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459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/* This algorithm displays the base-2 repres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f a base-10 numb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cei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 positive integ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he base-two represent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------------------------------------------------------------------*/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499"/>
              </a:spcBef>
              <a:tabLst>
                <a:tab algn="l" pos="0"/>
                <a:tab algn="l" pos="3459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1. Create an empty stack to hold the remainders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249"/>
              </a:spcBef>
              <a:tabLst>
                <a:tab algn="l" pos="0"/>
                <a:tab algn="l" pos="3459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2. 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. Calcula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remaind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that results wh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is divided by 2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b. Pus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remaind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onto the stack of remaind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c.  Repl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by the integer quoti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divided by 2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6502320" y="1447920"/>
            <a:ext cx="1955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80A0-A318-4AFC-AA03-54A63B2D6DB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2514600" cy="4483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33520" y="1905120"/>
            <a:ext cx="4495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3. While the stack of remainders is 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emp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a.  Retrieve and remov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remaind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from the top of the stack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remaind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b.  Displ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MT Extra Bold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7C9-D1B4-40D9-85A2-5A4C21937F6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28600" y="457200"/>
            <a:ext cx="8915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rogram that uses a stack to convert the base-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epresentation of a positive integer to base two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Input:  A positive integ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Output: Base-two representation of the numb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**************************************************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#include "Stack.h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 our own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unsigned number,     // the number to be conver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remainder;  // remainder when number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//   divided by 2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Stack&lt;int&gt; stackOfRemainders; // stack of remaind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response;           // user response 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EAA-350A-47C8-B61F-9E77A496616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3520" y="152280"/>
            <a:ext cx="8534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ut &lt;&lt; "Enter positive integer to convert: 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in &gt;&gt; numb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while (number !=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mainder = number % 2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stackOfRemainders.push(remainder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/= 2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Base-two representation: "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!stackOfRemainders.empty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remainder = stackOfRemainders.top(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5050"/>
                </a:solidFill>
                <a:latin typeface="Courier New"/>
              </a:rPr>
              <a:t>stackOfRemainders.pop(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remaind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\nMore (Y or N)? "; cin &gt;&gt; respons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response == 'Y' || response == 'y');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Building a </a:t>
            </a: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 Clas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C39-878E-4F3D-B7DF-D68038E4EE2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304920" y="380880"/>
          <a:ext cx="1257120" cy="70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12571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304920" y="1219320"/>
            <a:ext cx="4114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173160" indent="-173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1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the class; and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2. </a:t>
            </a: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Imp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the class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04920" y="3505320"/>
            <a:ext cx="83818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 MT Extra Bold"/>
              </a:rPr>
              <a:t>Identify the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needed to manipulate "real-world" objects being modeled by class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Operations are described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 MT Extra Bold"/>
              </a:rPr>
              <a:t>Independent of class i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 a manner independent of any specific representation of object (because we have no idea of what data members will be available)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066680" y="261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MT Extra Bold"/>
              </a:rPr>
              <a:t>1. Designing a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4000" spc="-1" strike="noStrike">
                <a:solidFill>
                  <a:srgbClr val="000000"/>
                </a:solidFill>
                <a:latin typeface="Times New Roman MT Extra Bold"/>
              </a:rPr>
              <a:t> Class</a:t>
            </a:r>
            <a:endParaRPr b="0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D89-292E-4746-9B25-8661504AB89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4920" y="1447920"/>
            <a:ext cx="81532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Constr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Initializes an empty stack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pera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Determines if stack contains any values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pera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Modifies a stack by adding a value to top of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pera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Retrieves the value at the top of the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 opera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Modifies a stack by removing the top value of the stack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To help with debugging, add early on: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MT Extra Bold"/>
            </a:endParaRPr>
          </a:p>
          <a:p>
            <a:pPr marL="2511360" indent="-251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MT Extra Bold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MT Extra Bold"/>
              </a:rPr>
              <a:t>Displays all the elements stored in the stack.</a:t>
            </a:r>
            <a:endParaRPr b="0" lang="en-US" sz="2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MT Extra Bold"/>
              </a:rPr>
              <a:t>Stack Operations:</a:t>
            </a:r>
            <a:endParaRPr b="0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19:49:55Z</dcterms:created>
  <dc:creator>Larry Nyhoff</dc:creator>
  <dc:description/>
  <dc:language>en-US</dc:language>
  <cp:lastModifiedBy>User Services</cp:lastModifiedBy>
  <cp:lastPrinted>1999-10-22T18:36:26Z</cp:lastPrinted>
  <dcterms:modified xsi:type="dcterms:W3CDTF">2017-09-30T14:09:51Z</dcterms:modified>
  <cp:revision>72</cp:revision>
  <dc:subject/>
  <dc:title>4. Stacks </dc:title>
</cp:coreProperties>
</file>