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MT Extra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 MT Extra Bold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5D5F9C-CB41-4E28-A01E-E16F38D2E139}" type="slidenum">
              <a:rPr b="0" lang="en-US" sz="1200" spc="-1" strike="noStrike">
                <a:solidFill>
                  <a:srgbClr val="000000"/>
                </a:solidFill>
                <a:latin typeface="Times New Roman MT Extra Bol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4F255F-A860-4B0C-8BE4-E789E0C698E7}" type="slidenum">
              <a:rPr b="0" lang="en-US" sz="1200" spc="-1" strike="noStrike">
                <a:solidFill>
                  <a:srgbClr val="000000"/>
                </a:solidFill>
                <a:latin typeface="Times New Roman MT Extra Bol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954039-B269-4DE1-903B-800AE42FFB96}" type="slidenum">
              <a:rPr b="0" lang="en-US" sz="1200" spc="-1" strike="noStrike">
                <a:solidFill>
                  <a:srgbClr val="000000"/>
                </a:solidFill>
                <a:latin typeface="Times New Roman MT Extra Bol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A0A-01B2-4133-A65C-0090D1C8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9DA-0BB2-4008-8BE3-749621BF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059-6023-439E-BBC1-4C4AD2CF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48F-0444-4DBA-90C2-B2367284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B022-1EC8-4498-9D6C-9D26427A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A34C-9468-490E-8432-C3D0018C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225-1DDE-4FC2-B60A-03A75E2D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670B-87E2-4340-BC96-4187E999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BDB-9AE2-4ACE-BB0E-7D49104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1228-73C8-4986-B50F-F8A1C877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DB5C-5F27-487D-A2F8-A011447B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B69-8F15-4D07-9B9F-F720E067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2450-ED4E-4EF4-BC7A-417C2A0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0308-3E45-4DAE-B033-B462B141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74D1-07E8-4C4D-B7B4-7C33E8E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A7C4-837A-4C4D-B2B8-34F30FFF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7C6-49C1-4FDB-BE79-5CD1E390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FBB-2188-4D6D-AD44-9A067F8B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128-CB14-4BA5-8371-7558127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764-E12B-4253-B339-2F9E7A1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392-1C83-4A82-BD2A-7ACD0310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04B-ED94-40A0-AA37-0B8BD9D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DB1-537C-4C4F-A7C6-133A266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898-0903-4BF6-B06C-7194CEC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18E-6B7A-4DCE-B9C4-2D15555034EF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8D8C-C6F1-49F2-B146-9F38243F7C88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Templat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5D41-44AA-497E-9486-69A7ADCA9768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920" y="1295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emplates allow functions and classes to b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 MT Extra Bold"/>
              </a:rPr>
              <a:t>parameterize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 MT Extra 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o that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 MT Extra Bold"/>
              </a:rPr>
              <a:t>type of data being operated upon (or stored) is received via a param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emplates provide a means 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 MT Extra Bold"/>
              </a:rPr>
              <a:t>reuse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—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one template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can be used to creat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 MT Extra Bold"/>
              </a:rPr>
              <a:t>multiple instances of a function (or class), each operating on (storing) a different type of data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 MT Extra 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he template mechanism is important and powerful.   It is used throughout the Standard Template Library (STL) to achiev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 MT Extra Bold"/>
              </a:rPr>
              <a:t>gener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57D-8E59-4C99-86D0-EF387A922150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238880" y="3108240"/>
            <a:ext cx="1067040" cy="2835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04920" y="380880"/>
            <a:ext cx="6248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Program to test th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template: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Stack.h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ck&lt;int&gt; intS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stack of ints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ck&lt;char&gt; charS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// stack of char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1; i &lt;= 4; i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St.push(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out &lt;&lt; instSt &lt;&lt; endl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char ch = 'A'; ch &lt;= 'D'; ch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harSt.push(ch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out &lt;&lt; charSt &lt;&lt; end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238880" y="3108240"/>
            <a:ext cx="129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 MT Extra Bold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A3AE-4925-4B50-9878-67404A25A6FE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Times New Roman MT Extra Bold"/>
              </a:rPr>
              <a:t>STL's </a:t>
            </a:r>
            <a:r>
              <a:rPr b="1" lang="en-US" sz="3600" spc="-1" strike="noStrike">
                <a:solidFill>
                  <a:srgbClr val="6666ff"/>
                </a:solidFill>
                <a:latin typeface="Courier New"/>
              </a:rPr>
              <a:t>stack</a:t>
            </a:r>
            <a:r>
              <a:rPr b="0" lang="en-US" sz="4000" spc="-1" strike="noStrike">
                <a:solidFill>
                  <a:srgbClr val="2f5897"/>
                </a:solidFill>
                <a:latin typeface="Times New Roman MT Extra Bold"/>
              </a:rPr>
              <a:t> Adapter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57200" y="1600200"/>
            <a:ext cx="868680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 MT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TL </a:t>
            </a:r>
            <a:r>
              <a:rPr b="1" lang="en-US" sz="2800" spc="-1" strike="noStrike">
                <a:solidFill>
                  <a:srgbClr val="6666ff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container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 MT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  <a:ea typeface="ＭＳ Ｐゴシック"/>
              </a:rPr>
              <a:t>Actually an adapter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 MT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  <a:ea typeface="ＭＳ Ｐゴシック"/>
              </a:rPr>
              <a:t>Indicated by container type as one of its type parameters</a:t>
            </a:r>
            <a:br>
              <a:rPr sz="2000"/>
            </a:br>
            <a:r>
              <a:rPr b="1" lang="en-US" sz="2400" spc="-1" strike="noStrike">
                <a:solidFill>
                  <a:srgbClr val="6666ff"/>
                </a:solidFill>
                <a:latin typeface="Courier New"/>
                <a:ea typeface="ＭＳ Ｐゴシック"/>
              </a:rPr>
              <a:t>stack &lt;T,  C&lt;T&gt; &gt; aStack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 MT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f no container specified  </a:t>
            </a:r>
            <a:r>
              <a:rPr b="1" lang="en-US" sz="2400" spc="-1" strike="noStrike">
                <a:solidFill>
                  <a:srgbClr val="6666ff"/>
                </a:solidFill>
                <a:latin typeface="Courier New"/>
              </a:rPr>
              <a:t>stack &lt;T&gt; astack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 MT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  <a:ea typeface="ＭＳ Ｐゴシック"/>
              </a:rPr>
              <a:t>Default container is a </a:t>
            </a:r>
            <a:r>
              <a:rPr b="1" lang="en-US" sz="2400" spc="-1" strike="noStrike">
                <a:solidFill>
                  <a:srgbClr val="6666ff"/>
                </a:solidFill>
                <a:latin typeface="Courier New"/>
                <a:ea typeface="ＭＳ Ｐゴシック"/>
              </a:rPr>
              <a:t>deque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 MT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  <a:ea typeface="ＭＳ Ｐゴシック"/>
              </a:rPr>
              <a:t>Also possible to specify a </a:t>
            </a:r>
            <a:r>
              <a:rPr b="1" lang="en-US" sz="2400" spc="-1" strike="noStrike">
                <a:solidFill>
                  <a:srgbClr val="6666ff"/>
                </a:solidFill>
                <a:latin typeface="Courier New"/>
                <a:ea typeface="ＭＳ Ｐゴシック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  <a:ea typeface="ＭＳ Ｐゴシック"/>
              </a:rPr>
              <a:t> or </a:t>
            </a:r>
            <a:r>
              <a:rPr b="1" lang="en-US" sz="2400" spc="-1" strike="noStrike">
                <a:solidFill>
                  <a:srgbClr val="6666ff"/>
                </a:solidFill>
                <a:latin typeface="Courier New"/>
                <a:ea typeface="ＭＳ Ｐゴシック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  <a:ea typeface="ＭＳ Ｐゴシック"/>
              </a:rPr>
              <a:t> as the container for the stack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6530-D8A9-4C95-AF2D-F99157453036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#ifndef _STACK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#define _STACK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emplate &lt;class T, class Container = deque&lt;T&gt; &gt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class stack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public: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ypedef typename Container::value_type    value_type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ypedef typename Container::size_type       size_type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ypedef typename Container::reference       reference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ypedef typename Container::const_reference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const_reference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ypedef          Container                        container_type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explicit stack(const Container&amp; x = Container()) : c(x) {}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851-20FD-4003-AABF-C1776E371323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bool      empty() const             { return c.empty(); }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ize_type size()  const             { return c.size(); }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reference         top()             { return c.back(); }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const_reference   top() const       { return c.back(); }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void push(const value_type&amp; x)      { c.push_back(x); }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void pop()                          { c.pop_back(); }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protected: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Container c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DBAD-9ED1-4BCF-877A-021F92439E29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friend bool operator== &lt;T, Container&gt;(const stack&lt;T, Container&gt;&amp; x, const stack&lt;T, Container&gt;&amp; y)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friend bool operator!= &lt;T, Container&gt;(const stack&lt;T, Container&gt;&amp; x, const stack&lt;T, Container&gt;&amp; y)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friend bool operator&lt;  &lt;T, Container&gt;(const stack&lt;T, Container&gt;&amp; x, const stack&lt;T, Container&gt;&amp; y)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friend bool operator&lt;= &lt;T, Container&gt;(const stack&lt;T, Container&gt;&amp; x, const stack&lt;T, Container&gt;&amp; y)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friend bool operator&gt;  &lt;T, Container&gt;(const stack&lt;T, Container&gt;&amp; x, const stack&lt;T, Container&gt;&amp; y)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friend bool operator&gt;= &lt;T, Container&gt;(const stack&lt;T, Container&gt;&amp; x, const stack&lt;T, Container&gt;&amp; y)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}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ass Templat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6726-362D-497D-8DF7-9F071EE0F2FE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600" y="1143000"/>
            <a:ext cx="868680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Consider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class: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Stack.h contains the declaration of class Stack. 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 operations:  . . .    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maxSize = 128;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def int StackEl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*** Function Members *****/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*** Data Members *****/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ckEl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yArray;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Top;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What</a:t>
            </a:r>
            <a:r>
              <a:rPr b="0" lang="ja-JP" sz="4000" spc="-1" strike="noStrike">
                <a:solidFill>
                  <a:srgbClr val="2f5897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s wrong with </a:t>
            </a:r>
            <a:r>
              <a:rPr b="1" lang="en-US" sz="4000" spc="-1" strike="noStrike">
                <a:solidFill>
                  <a:srgbClr val="2f5897"/>
                </a:solidFill>
                <a:latin typeface="Courier New"/>
              </a:rPr>
              <a:t>typedef</a:t>
            </a: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848F-BBC0-4D0B-ABB2-38BA1C41360C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8600" y="12412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o change the meaning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ck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throughout the class, we need only change the type follow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Problems: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280" y="2819520"/>
            <a:ext cx="876312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1. Changes the header file 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Any program/library that uses the class 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must b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recomp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A name declare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can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only one mea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f we need stacks with different element ty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e.g.,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f ints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f string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we must 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create different stack classes with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different names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5897"/>
                </a:solidFill>
                <a:latin typeface="Palatino Linotype"/>
              </a:rPr>
              <a:t>Type-Independent</a:t>
            </a: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 Container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5D0-24D8-4BF9-AFD4-370F1D14C05E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2280" y="914400"/>
            <a:ext cx="830592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Us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class 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:  the class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parameter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so that 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receives the type of data stored in the class via a 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(like function templates).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tack.h contains a template for class St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Basic operations . . 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int maxSize = 12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________________________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**** Function Members ****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. . 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**** Data Members ****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ckEleme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myArray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t myTo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2280" y="33526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emplate &lt;typename StackElement&gt;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38080" y="23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eives:  Type parameter StackElement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048120" y="59436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i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blan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type (a type placeholder) to be filled in later.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5897"/>
                </a:solidFill>
                <a:latin typeface="Palatino Linotype"/>
              </a:rPr>
              <a:t>General form of class template declaration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D36-B1AD-4B41-A171-4FED227754A8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1066680"/>
            <a:ext cx="9067680" cy="5105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80880" y="1143000"/>
            <a:ext cx="81536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yp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Pa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omeClass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 members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ome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  <a:ea typeface="ＭＳ Ｐゴシック"/>
              </a:rPr>
              <a:t>More than one type parameter may be specified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mplate &lt;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typ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ypePara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ＭＳ Ｐゴシック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...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typ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ypePara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ourier New"/>
                <a:ea typeface="ＭＳ Ｐゴシック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lass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meCla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... members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me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Instantiating class templat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4DBE-50CE-4802-8DFA-365002ADE05F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0880" y="2459160"/>
            <a:ext cx="83822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lassName&lt;Type&gt; object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pas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  as an arg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to the class template definition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Compiler will generate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two distinct definitions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of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— two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in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— one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 and one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80880" y="3659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Examples: 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ack&lt;int&gt;    intSt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ack&lt;string&gt; stringSt;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04920" y="128124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o use a class template in a program/function/library: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Instantiate it by using a declaration of the form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Rules for class templat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CD2-416F-4F81-9FB0-A9C4DDC39F9E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52280" y="1219320"/>
            <a:ext cx="8686800" cy="26694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1. Definitions of member functions outside class declaration must be function templates. 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404640" indent="-404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2.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All uses of class name as a type must be parameterized. 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404640" indent="-404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3.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Member functions must be defined in the same file as the class declaration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228600" y="464976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For our Stack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a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Prototypes of function me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?  No change — rules don't apply to them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3B24-5291-4304-95A1-77EBBEDDD1C6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0880" y="19652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emplate &lt;typename StackElement&gt;    // rule #1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920" y="4572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b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Definitions of function me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89080" indent="-289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Rule 1:  They must be defined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 MT Extra Bold"/>
              </a:rPr>
              <a:t>function templ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80880" y="1981080"/>
            <a:ext cx="8534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 definition of Stack()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 definition of empty()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80880" y="2803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emplate &lt;typename StackElement&gt;    // rule #1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04920" y="3565440"/>
            <a:ext cx="64767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 definition of push()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 definition of display()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 definition of top()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 definition of pop()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653-F3DE-4DE4-8205-6D5C9861F65F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6320" y="285840"/>
            <a:ext cx="87627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ule 2: The class n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preceding the scope operator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) is us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the name of a type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nd must therefore be </a:t>
            </a: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parameterized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Stack()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... body of Stack() ... */ }</a:t>
            </a:r>
            <a:br>
              <a:rPr sz="16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ool                        empty()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... body of empty() ... */ }</a:t>
            </a:r>
            <a:endParaRPr b="1" lang="en-US" sz="1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09480" y="1662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ck&lt;StackElement&gt;::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90720" y="2536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ck &lt;StackElement::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6320" y="3119400"/>
            <a:ext cx="82296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tack&lt;StackElement&gt;::push(const StackElement &amp; value)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... body of push() ... */ }</a:t>
            </a:r>
            <a:endParaRPr b="1" lang="en-US" sz="16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tack&lt;StackElement&gt;::display(ostream &amp; out)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... body of display() ... */ }</a:t>
            </a:r>
            <a:endParaRPr b="1" lang="en-US" sz="16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Element Stack&lt;StackElement&gt;::top()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... body of top() ... */ }</a:t>
            </a:r>
            <a:endParaRPr b="1" lang="en-US" sz="16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tack&lt;StackElement&gt;::pop()</a:t>
            </a:r>
            <a:endParaRPr b="1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... body of pop() ... */ }</a:t>
            </a:r>
            <a:endParaRPr b="1" lang="en-US" sz="1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3T21:11:10Z</dcterms:created>
  <dc:creator>CSSE Department</dc:creator>
  <dc:description/>
  <dc:language>en-US</dc:language>
  <cp:lastModifiedBy>User Services</cp:lastModifiedBy>
  <cp:lastPrinted>1999-11-04T23:00:37Z</cp:lastPrinted>
  <dcterms:modified xsi:type="dcterms:W3CDTF">2017-10-03T19:02:25Z</dcterms:modified>
  <cp:revision>109</cp:revision>
  <dc:subject/>
  <dc:title>No Slide Title</dc:title>
</cp:coreProperties>
</file>